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675-35C1-4F68-BB66-CD97B5D4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D70-EF53-4645-8F8E-D4ACBAE3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BDD-8FE1-49F3-A7A0-D7E9216E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11A-FD4E-4D4F-9435-8FB84837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093D-7D83-46DB-9A77-9B7F0446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BD0-3DBE-4790-AE9A-F72EB5EC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1DEB-2292-4E62-867C-12E945D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4CBD-1FF2-4A6D-BE9B-46A29C7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7868-D0C5-4575-B7F2-820F4713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4462-E7A5-4D04-8719-DE74835F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E8E7-489C-4EF9-8935-BD4E01C0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D53-A499-4DD0-83C3-BDF85FC2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374E-ABF9-42AD-B862-9E43683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7425-7E5A-4B64-BF49-E80C4E72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468F-7F1F-484E-841C-50AFE46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3839-9342-4486-AD72-CA5FA3D1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E6B4-61DF-4AE0-9CB5-F3664BA6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D02-9CE5-4848-89CB-089FE80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E66-6B1E-4827-8017-638F05EF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FA8-D9DD-4F69-977F-1DEF5934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7F7-83B0-4DE7-A022-4B1E78A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781-B190-4397-9B0B-754268D8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355-2C40-4432-8D02-94D89E19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6B7-A102-45A1-96A4-0C809524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4C5C-B61F-41BB-B217-328ECDA036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0FF6-40E3-4B18-B581-257B0FBE7D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第十三章  货币一体化理论与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ories of Currency Are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 European Monetary Integ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最适货币区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蒙代尔与最适货币区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两种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一货币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多种货币并存并通过固定汇率机制连接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两种货币区的调节机制比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单一货币区内外均衡调节机制较优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区内要素自由流动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对外实行浮动汇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治变革、主权让渡与政治同盟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传统分析法（最适货币区条件论）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最适货币区条件主要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生产要素的流动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开放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多样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相近的通货膨胀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策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成本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收益分析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加入货币区，有成本，也有收益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消除投机资本区内流动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节约外汇储备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推动经济政策一体化和经济一体化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政治收益：提高国际协议地位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丧失货币政策自主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财政政策自主性受到限制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增大失业增加的可能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打破原有的国内均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共同货币政策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共同货币单位与货币篮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共同货币政策条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单一货币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分析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欧洲货币体系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主要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单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浮动的汇率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合作基金和信贷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成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汇率最稳定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加强成员国在国际金融体系中地位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共同发展与政策协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为单一货币奠定基础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欧洲货币联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欧洲货币联盟的产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马斯特里赫特条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单一货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欧洲单一货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欧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1:12:03Z</dcterms:created>
  <dc:creator>MS User</dc:creator>
  <dc:description/>
  <dc:language>en-US</dc:language>
  <cp:lastModifiedBy>Dell</cp:lastModifiedBy>
  <dcterms:modified xsi:type="dcterms:W3CDTF">2021-08-23T22:50:40Z</dcterms:modified>
  <cp:revision>13</cp:revision>
  <dc:subject/>
  <dc:title>第八章  货币一体化理论与欧洲货币一体化</dc:title>
</cp:coreProperties>
</file>